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39C-88A3-4C1C-B5BA-865AF9CE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421-7F90-474D-AD04-E888A5F7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B7D-7DD5-4624-830C-CDE18940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5316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1120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9512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5316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1120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75E-DCB5-4E8F-85BF-C1D3809E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9520" y="30456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A81-88EB-4870-B9B0-130E1530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316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1120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9512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5316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81120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1B1-125B-4F31-9232-FD8029B4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83C-3E09-41DA-90CF-F415F692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34D-189C-4841-9F90-463E57D7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9520" y="30456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50F-DF62-49CE-9D57-804A12DB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08E-C34E-4682-906E-C61BB45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405-8DE3-47B6-8ADA-B507D475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206-4A2C-4787-B8E5-03F4388E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1C80-7DDD-4805-8E55-AA81F1D323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55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363852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6200" y="3045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hy is the </a:t>
            </a: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moon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levant to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our daily lives?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8769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How can we find out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055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did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get ther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far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way is it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Why does it chang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Does i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change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the way we feel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i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differen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from the sun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i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differen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from the Earth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Did man 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really go 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to the moon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Why did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astronauts go there?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Does i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stay in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one plac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How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long have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people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studied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the moon 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moon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It changes.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What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would it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be like if the moon was gone forever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To find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answers to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what we ar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WONDERING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about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we will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cc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Make personal observ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of the moon in the sk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Draw diagrams of h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moon moves acro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sky at night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Keep a journal describing the observa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cc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Discuss our entries with one ano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…</a:t>
            </a: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Use Internet educational websites to help 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design animated videos depicting th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moon’s revolu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round the Ear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Earth’s ro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Earth’s revolu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round the s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Relative sizes will be shown to sca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… </a:t>
            </a: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Do research on the Internet to find out how the moon affec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The Earth’s t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nim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m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… </a:t>
            </a: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Use a Venn diagram to sh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similarit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and differen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between the moon, the Earth, and the su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… </a:t>
            </a: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Develop a PowerPoint presentation explain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historical findings of 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stronom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and analyz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the differences in wha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Aristotle, Ptolemy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Copernicus, and Galileo observed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what influenced their conclu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an Internet survey/poll for opinions abou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stronauts’ moonwalk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on past, presen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future space explo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e and post the dat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A full moon is bright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is not a plane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stronauts landed on i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goes around the Earth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nimals howl at i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Why does it chang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What is 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it made of 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jkurczak</cp:lastModifiedBy>
  <dcterms:modified xsi:type="dcterms:W3CDTF">2009-03-16T16:33:21Z</dcterms:modified>
  <cp:revision>13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